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B2242-22BD-4115-AD45-03DDA9A7180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388E-EC88-48EC-A949-50B41E6E1A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8B8D-1871-4F2B-B0ED-CD7EA8F18F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BA7A-5D96-4B56-89D4-B109BF4D25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B1A8-33FA-42AC-A180-40C91590472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36F3-54C1-4E92-A502-6A7291C0795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10D4-9485-4D11-9F5B-9CD2BDD7D51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71A-E669-495F-B80F-FCB319F149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CBA9-2094-4CCC-AE55-E227DE310FB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3D08-B6B4-4BA8-8613-CE28E4441B9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DEE54-ABAA-4171-BF0F-8F9D9C26AB6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58D-E97B-4B7E-BEBC-3121ED71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649-1CE1-4BE2-92C6-EAE6F1D4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206-6D56-4521-9083-37151BD7F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F05-0BA2-4361-B8F8-24C235BDB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EC4D-6029-4D9F-9837-045066FB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587B-BA12-492D-B73B-D9295E2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718-E0B8-4953-86FA-FB2D24304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4DF2-49F2-4A01-B3D4-BCFC630B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FA16-8F23-4D88-9A25-98E9034D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1DC5-3FA0-4B01-92C3-C96481A5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73E-FFDB-4C99-BDD1-6FBD1C15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3BA-D95A-42D7-A26C-E6E9F4BF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3AB3-E82C-4F7E-8BA7-BE4C681701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19.png"/><Relationship Id="rId14" Type="http://schemas.openxmlformats.org/officeDocument/2006/relationships/image" Target="../media/image20.jpeg"/><Relationship Id="rId15" Type="http://schemas.openxmlformats.org/officeDocument/2006/relationships/image" Target="../media/image21.jpeg"/><Relationship Id="rId16" Type="http://schemas.openxmlformats.org/officeDocument/2006/relationships/image" Target="../media/image22.jpeg"/><Relationship Id="rId1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.Г.Сухин,</a:t>
            </a:r>
            <a:br>
              <a:rPr sz="36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арший научный сотрудник Института стратегии развития образования Российской академии образования, г. Москва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342900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учный подход в курсе «Шахматы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школе» к развитию мышления дет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15228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A653-E8D1-433D-A646-FAB30A906E4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476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курс «Шахматы – школе» опирается на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1) культурно-историческую теорию формирования высших психических функций (Л.С. Выготский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теорию о поэтапном формировании умственных действий (П.Я.Гальперин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) культурологическую теорию содержания образования (И.Я.Лернер, М.Н.Скаткин);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) работы о стадиях развития способности действовать “в уме” (Я.А.Пономарёв и др.);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) новейшие исследования в области нейронаук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964B-23BB-4DD7-A986-8C085E2750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зработка общеобразовательной программы курса шахмат в начальной школе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52120" y="304560"/>
            <a:ext cx="7239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первого года обучения «Шахматы, первый год» курса «Шахматы – школе» впервые опубликована в журналах «Начальная школа» (1994, №9) и «Вестник образования» (1994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второго года обучения «Шахматы, второй год» курса «Шахматы – школе» опубликована в журналах «Начальная школа» (1995, №8) и «Вестник образования» (1995, №9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а третьего года обучения «Шахматы, третий год» курса «Шахматы – школе» опубликована в журналах «Начальная школа» (1997, №10) и «Образование» (1998, №4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граммы трёх лет обучения «Шахматы, первый год», «Шахматы, второй год» и «Шахматы, третий год» приведены в сборниках «Программы общеобразовательных учреждений. Начальные классы (1 – 4)» (М.: Просвещение, 1998), «Программы общеобразовательных учреждений. Начальные классы (1 – 4)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двух частях. Часть вторая» (М.: Просвещение, 2000, 2001, 2002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тдельным изданием программы впервые вышли в 2010 году: И.Г.Сухин «Программы курса «Шахматы – школе»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ля начальных классов общеобразовательных учреждений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Обнинск: Духовное возрождение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010, 2011, 2013, 2016. – 40 с.)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2019 годы изданы и рабочие программы курс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3" descr="D:\Мои документы\Начальная школа 1994_9_15пр.jpg"/>
          <p:cNvPicPr/>
          <p:nvPr/>
        </p:nvPicPr>
        <p:blipFill>
          <a:blip r:embed="rId1"/>
          <a:stretch/>
        </p:blipFill>
        <p:spPr>
          <a:xfrm>
            <a:off x="-7920" y="0"/>
            <a:ext cx="171144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D:\Мои документы\Сухин_Программа30пр.jpg"/>
          <p:cNvPicPr/>
          <p:nvPr/>
        </p:nvPicPr>
        <p:blipFill>
          <a:blip r:embed="rId2"/>
          <a:stretch/>
        </p:blipFill>
        <p:spPr>
          <a:xfrm>
            <a:off x="20520" y="4800600"/>
            <a:ext cx="140184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Мои документы\Презентации конференции в Стамбуле 30-08-2012\Программы 30пр.jpg"/>
          <p:cNvPicPr/>
          <p:nvPr/>
        </p:nvPicPr>
        <p:blipFill>
          <a:blip r:embed="rId3"/>
          <a:stretch/>
        </p:blipFill>
        <p:spPr>
          <a:xfrm>
            <a:off x="0" y="2517840"/>
            <a:ext cx="1432080" cy="22064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Рабочие_программы_Шахматы-школе2019-450кб_40пр.jpg"/>
          <p:cNvPicPr/>
          <p:nvPr/>
        </p:nvPicPr>
        <p:blipFill>
          <a:blip r:embed="rId4"/>
          <a:stretch/>
        </p:blipFill>
        <p:spPr>
          <a:xfrm>
            <a:off x="7451640" y="4521240"/>
            <a:ext cx="158436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87F-2B2E-4057-991D-CECADF9191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4. Написание курса шахмат для начальной школы.</a:t>
            </a:r>
            <a:br>
              <a:rPr sz="4000"/>
            </a:b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AE2A-28C9-4116-A140-2220CC5DB91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153280" cy="5335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ЕДЕРАЛЬНЫЙ КУРС «ШАХМАТЫ – ШКОЛЕ»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0" name="Picture 8" descr="D:\Мои документы\Мои рисунки\Копия Обложки книг для ШН\Учебник 2 год .jpg"/>
          <p:cNvPicPr/>
          <p:nvPr/>
        </p:nvPicPr>
        <p:blipFill>
          <a:blip r:embed="rId1"/>
          <a:stretch/>
        </p:blipFill>
        <p:spPr>
          <a:xfrm>
            <a:off x="228600" y="2925720"/>
            <a:ext cx="1312920" cy="1798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D:\Мои документы\Мои рисунки\Новые фото книг\Марина Духовное возрождение Обложки некоторых новых книг\Chess_cover_metod-2_for_web.jpg"/>
          <p:cNvPicPr/>
          <p:nvPr/>
        </p:nvPicPr>
        <p:blipFill>
          <a:blip r:embed="rId2"/>
          <a:stretch/>
        </p:blipFill>
        <p:spPr>
          <a:xfrm>
            <a:off x="2133720" y="2997360"/>
            <a:ext cx="1184040" cy="1800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D:\Мои документы\Мои рисунки\Новые фото всех моих книг\ДВ_Рабтетрадь_2класс_1часть50.jpg"/>
          <p:cNvPicPr/>
          <p:nvPr/>
        </p:nvPicPr>
        <p:blipFill>
          <a:blip r:embed="rId3"/>
          <a:stretch/>
        </p:blipFill>
        <p:spPr>
          <a:xfrm>
            <a:off x="3886200" y="2970360"/>
            <a:ext cx="1317600" cy="1804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D:\Мои документы\Мои рисунки\Новые фото книг\ДВ_2год_провер30.jpg"/>
          <p:cNvPicPr/>
          <p:nvPr/>
        </p:nvPicPr>
        <p:blipFill>
          <a:blip r:embed="rId4"/>
          <a:stretch/>
        </p:blipFill>
        <p:spPr>
          <a:xfrm>
            <a:off x="5713560" y="2981160"/>
            <a:ext cx="1201680" cy="180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2" descr="D:\Мои документы\Задачник_2_год_25пр.jpg"/>
          <p:cNvPicPr/>
          <p:nvPr/>
        </p:nvPicPr>
        <p:blipFill>
          <a:blip r:embed="rId5"/>
          <a:stretch/>
        </p:blipFill>
        <p:spPr>
          <a:xfrm>
            <a:off x="7488360" y="2981160"/>
            <a:ext cx="1220760" cy="180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D:\Мои документы\Мои рисунки\Копия Обложки книг для ШН\Учебник 3 год.jpg"/>
          <p:cNvPicPr/>
          <p:nvPr/>
        </p:nvPicPr>
        <p:blipFill>
          <a:blip r:embed="rId6"/>
          <a:stretch/>
        </p:blipFill>
        <p:spPr>
          <a:xfrm>
            <a:off x="237960" y="4929120"/>
            <a:ext cx="1303560" cy="18050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D:\Мои документы\Уучь и учу 3 год25пр.jpg"/>
          <p:cNvPicPr/>
          <p:nvPr/>
        </p:nvPicPr>
        <p:blipFill>
          <a:blip r:embed="rId7"/>
          <a:stretch/>
        </p:blipFill>
        <p:spPr>
          <a:xfrm>
            <a:off x="2135160" y="4932360"/>
            <a:ext cx="1198440" cy="1803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D:\Мои документы\Мои рисунки\Новые фото книг\Марина Духовное возрождение Обложки некоторых новых книг\Cover_rt_part_1_____for_web_small.jpg"/>
          <p:cNvPicPr/>
          <p:nvPr/>
        </p:nvPicPr>
        <p:blipFill>
          <a:blip r:embed="rId8"/>
          <a:stretch/>
        </p:blipFill>
        <p:spPr>
          <a:xfrm>
            <a:off x="3854520" y="4959360"/>
            <a:ext cx="1400040" cy="1798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D:\Мои документы\Проверочная тетрадь3год25пр.jpg"/>
          <p:cNvPicPr/>
          <p:nvPr/>
        </p:nvPicPr>
        <p:blipFill>
          <a:blip r:embed="rId9"/>
          <a:stretch/>
        </p:blipFill>
        <p:spPr>
          <a:xfrm>
            <a:off x="5746680" y="4943520"/>
            <a:ext cx="1201680" cy="18032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6" descr="Сухин_Шахматы_1год_учебник2017_1часть20пр.jpg"/>
          <p:cNvPicPr/>
          <p:nvPr/>
        </p:nvPicPr>
        <p:blipFill>
          <a:blip r:embed="rId10"/>
          <a:stretch/>
        </p:blipFill>
        <p:spPr>
          <a:xfrm>
            <a:off x="250920" y="981000"/>
            <a:ext cx="1331640" cy="180036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Сухин_Шахматы_1год_рабтетрадь2017_1часть15пр.jpg"/>
          <p:cNvPicPr/>
          <p:nvPr/>
        </p:nvPicPr>
        <p:blipFill>
          <a:blip r:embed="rId11"/>
          <a:stretch/>
        </p:blipFill>
        <p:spPr>
          <a:xfrm>
            <a:off x="3840120" y="907920"/>
            <a:ext cx="1308240" cy="180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6"/>
          <p:cNvGraphicFramePr/>
          <p:nvPr/>
        </p:nvGraphicFramePr>
        <p:xfrm>
          <a:off x="7483320" y="4941720"/>
          <a:ext cx="1265400" cy="18241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Object 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483320" y="4941720"/>
                    <a:ext cx="126540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3" name="Рисунок 18" descr="ДВ_обложка_1год-тетрадь_провер-2019_20пр.jpg"/>
          <p:cNvPicPr/>
          <p:nvPr/>
        </p:nvPicPr>
        <p:blipFill>
          <a:blip r:embed="rId14"/>
          <a:stretch/>
        </p:blipFill>
        <p:spPr>
          <a:xfrm>
            <a:off x="5703840" y="907920"/>
            <a:ext cx="1171800" cy="17971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8" descr="ДВ_обложка_1год-пособие-2019_20пр.jpg"/>
          <p:cNvPicPr/>
          <p:nvPr/>
        </p:nvPicPr>
        <p:blipFill>
          <a:blip r:embed="rId15"/>
          <a:stretch/>
        </p:blipFill>
        <p:spPr>
          <a:xfrm>
            <a:off x="2124000" y="981000"/>
            <a:ext cx="1230480" cy="18781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19" descr="ДВ_обложка_1год-задачник2019_20пр.jpg"/>
          <p:cNvPicPr/>
          <p:nvPr/>
        </p:nvPicPr>
        <p:blipFill>
          <a:blip r:embed="rId16"/>
          <a:stretch/>
        </p:blipFill>
        <p:spPr>
          <a:xfrm>
            <a:off x="7451640" y="928800"/>
            <a:ext cx="1224000" cy="17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D66-0D78-46A2-B046-322199CBCE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5. К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о должен преподавать шахматы в начальной школе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0D8-B5CF-4CFD-A2E0-57F73BEE14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2019 году во всех зарубежных странах пришли к пониманию, что преподавать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шахматы в начальных классах должны именно учителя начальных классов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 вот в России это поняли ещё в 1993 году.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B429-59FB-45BA-9311-2C7CF8CC2F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ак следует готовить учителей начальных классов?</a:t>
            </a:r>
            <a:br>
              <a:rPr sz="4400"/>
            </a:b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6DFA1-4D08-4861-9134-E0E3DE2C8B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 курсах повышения квалификации, которые должен проводить учёный - автор курс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курсе «Шахматы - школе» подобные занятия проводятся по новой образовательной технологии - «Технологии развития способности действовать “в уме” с использованием шахматного материала» ил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Шахматно-задачной технологии И.Г.Сухина».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57146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Курсы повышения квалификации: Обнинск: 03-12-2013. 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а курсах И.Г.Сухина слушатели постранично работают с учебником «Шахматы, первый год, или Там клетки чёрно-белые чудес и тайн полны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5" name="Picture 4" descr="D:\Мои документы\Фото_Обнинск_курсы_03-12-2013\IMAG1240н.jpg"/>
          <p:cNvPicPr/>
          <p:nvPr/>
        </p:nvPicPr>
        <p:blipFill>
          <a:blip r:embed="rId1"/>
          <a:stretch/>
        </p:blipFill>
        <p:spPr>
          <a:xfrm>
            <a:off x="620640" y="152280"/>
            <a:ext cx="790272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28D9-D4C9-4F31-8797-35EA6C3EBC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Два парадигмальных подхода к введению шахмат в школьную программу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убежны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в школе»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оссийский подход: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Шахматы – школе»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лавная цель курса «Шахматы - школе» – поэтапное развитие способности детей действовать «в уме»</a:t>
            </a:r>
            <a:br>
              <a:rPr sz="1400"/>
            </a:b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4920" y="2057400"/>
            <a:ext cx="8534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 1960-е годы Я.А.Пономарёвым было установлено, что </a:t>
            </a:r>
            <a:r>
              <a:rPr b="1" i="1" lang="ru-RU" sz="2200" spc="-1" strike="noStrike">
                <a:solidFill>
                  <a:srgbClr val="339933"/>
                </a:solidFill>
                <a:latin typeface="Times New Roman"/>
              </a:rPr>
              <a:t>важнейша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не сводимая к простому накоплению знаний и умений интеллектуальная способность, которая развивается в ходе обучения, – </a:t>
            </a:r>
            <a:r>
              <a:rPr b="1" lang="ru-RU" sz="2200" spc="-1" strike="noStrike">
                <a:solidFill>
                  <a:srgbClr val="ff0000"/>
                </a:solidFill>
                <a:latin typeface="Times New Roman"/>
              </a:rPr>
              <a:t>это способность действовать «в уме»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Эта способность является одним из важнейших показателей общего развития психики человека, представляет собой нерасторжимое единство воображения, внимания, памяти и мышления 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заключается в возможности человека оперировать в мысленном плане с заместителями реальных предметов (не совершая с ними развернутых операций в пространстве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Развитие способности действовать «в уме» важно для всех видов деятельности человека, так как каждый из них требует выполнения операций в определённой последовательност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Известно, что способность действовать «в уме» необходимо специально развивать, причем её развитие – процесс медленный, предполагающий длительное умственное воспитание детей и завершающийся приблизительно в 12 лет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интенсивно эта способность развивается в младшем возрасте, но в общеизвестных системах обучения она целенаправленно не формируется. По этой причине способность действовать «в уме» достигает оптимального развития всего у 5% людей.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Чётко структурированное обучение детей основам шахматной игры является тем оптимальным средством, которое позволяет развить способность действовать «в уме». </a:t>
            </a:r>
            <a:br>
              <a:rPr sz="2200"/>
            </a:b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были разработаны для достижения этой глобальной цели.</a:t>
            </a:r>
            <a:br>
              <a:rPr sz="2200"/>
            </a:br>
            <a:endParaRPr b="0" lang="en-US" sz="2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6840" y="91404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 Федеральном курсе «Шахматы – школе» реализована шахматно-задачная технология обучения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«Шахматно-задачная технология» </a:t>
            </a:r>
            <a:br>
              <a:rPr sz="5400"/>
            </a:br>
            <a:r>
              <a:rPr b="1" lang="ru-RU" sz="5400" spc="-1" strike="noStrike">
                <a:solidFill>
                  <a:srgbClr val="666633"/>
                </a:solidFill>
                <a:latin typeface="Times New Roman"/>
              </a:rPr>
              <a:t>основана на системно-деятельностном подходе.</a:t>
            </a:r>
            <a:endParaRPr b="0" lang="en-US" sz="5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“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Шахматно-задачная технология” базируется на: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но-исторической теории формирования высших психических функций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культурологической теории содержания образования;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теории поэтапного формирования умственных действий;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- исследованиях способности действовать “в уме”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Важнейшим аспектом обучения педагогов “Шахматно-задачной технологии” является организация 36–80-часовых курсов. </a:t>
            </a: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     На курсах 10% учебного времени занимает знакомство с правилами шахмат и 90% – обучение “Шахматно-задачной технологии” проведения уроков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13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077320" y="525780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960" y="15192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по «Шахматно-задачной технологии» обеспечивает почти 100% положительную мотивацию, потому что технология работы – задачная, и неуспешных нет. Задачи – занимательные, нестандартные, требующие творческого подхода. Во многих из них кажущийся очевидным путь ведет в тупик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Эти задачи одновременно нагружают оба полушария ребенка: и левое, ответственное за развитие логического мышления, и правое, отвечающее за развитие творческого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 составляющие курса «Шахматы - школе» и «Шахматно-задачная технология» разработаны И.Г.Сухиным на базе новейших исследований в нейронауках и прежде всего на органичном сочетании холистической и аналитической систем мышления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808000"/>
                </a:solidFill>
                <a:latin typeface="Times New Roman"/>
              </a:rPr>
              <a:t>ХОЛИЗМ</a:t>
            </a:r>
            <a:endParaRPr b="0" lang="en-US" sz="72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2742840"/>
            <a:ext cx="76960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ристотель: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«Целое больше, чем сумма его частей»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638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00"/>
                </a:solidFill>
                <a:latin typeface="Times New Roman"/>
              </a:rPr>
              <a:t>Пример проявления холизма в шахматах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6840" y="2514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Ладья - 4,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он - 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- 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ерзь &gt; Ладья + Слон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D:\Мои документы\Фото_к_сказке_Оля_и_Добрыня\Белая ладья.JPG"/>
          <p:cNvPicPr/>
          <p:nvPr/>
        </p:nvPicPr>
        <p:blipFill>
          <a:blip r:embed="rId1"/>
          <a:stretch/>
        </p:blipFill>
        <p:spPr>
          <a:xfrm>
            <a:off x="7238880" y="228600"/>
            <a:ext cx="1695600" cy="2971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D:\Мои документы\Фото_к_сказке_Оля_и_Добрыня\Белый слон50пр.JPG"/>
          <p:cNvPicPr/>
          <p:nvPr/>
        </p:nvPicPr>
        <p:blipFill>
          <a:blip r:embed="rId2"/>
          <a:stretch/>
        </p:blipFill>
        <p:spPr>
          <a:xfrm>
            <a:off x="7315200" y="3581280"/>
            <a:ext cx="1546200" cy="3124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D:\Мои документы\Фото_к_сказке_Оля_и_Добрыня\Белый ферзь50пр.JPG"/>
          <p:cNvPicPr/>
          <p:nvPr/>
        </p:nvPicPr>
        <p:blipFill>
          <a:blip r:embed="rId3"/>
          <a:stretch/>
        </p:blipFill>
        <p:spPr>
          <a:xfrm>
            <a:off x="380880" y="2666880"/>
            <a:ext cx="1952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" y="70920"/>
            <a:ext cx="9037800" cy="674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нципиальное отличие подхода, заложенного в курсе «Шахматы – школе», от зарубежных аналогов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годня существуют два взгляда на введение шахмат в школьную программу. Первый из них (антинаучный) характерен для большинства зарубежных стран – «Шахматы в школе». При таком подходе учеников учат играть в шахматы, а развитие мышления выступает как ожидаемый, но побочный результат.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Второй путь – российский– охарактеризован в 1980-е годы академиком Б.С. Гершунским как «Шахматы – школе»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 нем на уровне целеполагания выявляется все ценное, чем могут быть полезны шахматы для общеобразовательной школы, и на этой основе разрабатывается научно обоснованный курс шахмат. В этом случае шахматы рассматриваются как инструмент развития, и процесс обучения основам шахматной игры выступает как средство для достижения цели. Этот путь в мире пока реализован только в отечественном курсе И.Г.Сухина «Шахматы – школе».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67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Россия с 1994 года стала первой страной в мире, где разработан именно НАУЧНО ОБОСНОВАННЫЙ Федеральный курс шахмат "Шахматы – школе", преподавать который призваны учителя начальных классов.</a:t>
            </a:r>
            <a:br>
              <a:rPr sz="2800"/>
            </a:br>
            <a:br>
              <a:rPr sz="28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4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031C-3A59-4714-B72A-280A2F154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10480" cy="647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ОРИТЕТ РОССИИ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енно в России разработана новая образовательная технология обучения «Технология развития способности действовать “в уме” с использованием шахматного материала» или «Шахматно-задачная технология И.Г.Сухина»</a:t>
            </a:r>
            <a:br>
              <a:rPr sz="32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Задачная технология обучения по здоровьесберегающему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урсу «Шахматы – школе» обеспечивает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чти 100% положительную мотивацию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 детей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27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8101080" y="5334120"/>
            <a:ext cx="89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3A25-D71E-48F2-92E3-F90873CCAC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3048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Книги И.Г.Сухина издавались не только в РФ, но и за рубежом: в Испании - в 1992 г. с предисловием чемпиона мира Г.Каспарова, в США - в 2007 г. с предисловием чемпиона мира В.Крамника, а в 2008 году с предисловием чемпионки мира Ж.Полгар. В 2011 г. серия из 7 книг И.Г.Сухина </a:t>
            </a:r>
            <a:r>
              <a:rPr b="1" lang="en-US" sz="2800" spc="-1" strike="noStrike">
                <a:solidFill>
                  <a:srgbClr val="666633"/>
                </a:solidFill>
                <a:latin typeface="Times New Roman"/>
              </a:rPr>
              <a:t>“Chess camp” </a:t>
            </a:r>
            <a:r>
              <a:rPr b="1" lang="ru-RU" sz="2800" spc="-1" strike="noStrike">
                <a:solidFill>
                  <a:srgbClr val="666633"/>
                </a:solidFill>
                <a:latin typeface="Times New Roman"/>
              </a:rPr>
              <a:t> Рекомендована Шахматной федерацией США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30" name="Picture 3" descr="D:\Мои документы\Испания_Виго_Волшебный_шахматный_мешочек25.jpg"/>
          <p:cNvPicPr/>
          <p:nvPr/>
        </p:nvPicPr>
        <p:blipFill>
          <a:blip r:embed="rId1"/>
          <a:stretch/>
        </p:blipFill>
        <p:spPr>
          <a:xfrm>
            <a:off x="152280" y="3747960"/>
            <a:ext cx="2094120" cy="2881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D:\Мои документы\Мои рисунки\Сухин США.jpg"/>
          <p:cNvPicPr/>
          <p:nvPr/>
        </p:nvPicPr>
        <p:blipFill>
          <a:blip r:embed="rId2"/>
          <a:stretch/>
        </p:blipFill>
        <p:spPr>
          <a:xfrm>
            <a:off x="2514600" y="3746520"/>
            <a:ext cx="1857240" cy="2882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D:\Мои документы\Приключения Гарри США15.jpg"/>
          <p:cNvPicPr/>
          <p:nvPr/>
        </p:nvPicPr>
        <p:blipFill>
          <a:blip r:embed="rId3"/>
          <a:stretch/>
        </p:blipFill>
        <p:spPr>
          <a:xfrm>
            <a:off x="4648320" y="3749760"/>
            <a:ext cx="217800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D:\Мои документы\Мои рисунки\Новые фотографии книг 2011 год\США Сборник 1-29пр.jpg"/>
          <p:cNvPicPr/>
          <p:nvPr/>
        </p:nvPicPr>
        <p:blipFill>
          <a:blip r:embed="rId4"/>
          <a:stretch/>
        </p:blipFill>
        <p:spPr>
          <a:xfrm>
            <a:off x="7077240" y="3753000"/>
            <a:ext cx="1914480" cy="28764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7"/>
          <p:cNvGrpSpPr/>
          <p:nvPr/>
        </p:nvGrpSpPr>
        <p:grpSpPr>
          <a:xfrm>
            <a:off x="76320" y="76320"/>
            <a:ext cx="457200" cy="457200"/>
            <a:chOff x="76320" y="76320"/>
            <a:chExt cx="457200" cy="457200"/>
          </a:xfrm>
        </p:grpSpPr>
        <p:sp>
          <p:nvSpPr>
            <p:cNvPr id="135" name="Rectangle 8"/>
            <p:cNvSpPr/>
            <p:nvPr/>
          </p:nvSpPr>
          <p:spPr>
            <a:xfrm>
              <a:off x="76320" y="76320"/>
              <a:ext cx="457200" cy="4572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177120" y="398880"/>
              <a:ext cx="258120" cy="6444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4440"/>
                <a:gd name="textAreaBottom" fmla="*/ 64800 h 6444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10"/>
            <p:cNvSpPr/>
            <p:nvPr/>
          </p:nvSpPr>
          <p:spPr>
            <a:xfrm>
              <a:off x="315360" y="252000"/>
              <a:ext cx="0" cy="12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11"/>
            <p:cNvSpPr/>
            <p:nvPr/>
          </p:nvSpPr>
          <p:spPr>
            <a:xfrm>
              <a:off x="140760" y="140400"/>
              <a:ext cx="128880" cy="193680"/>
            </a:xfrm>
            <a:custGeom>
              <a:avLst/>
              <a:gdLst>
                <a:gd name="textAreaLeft" fmla="*/ 52920 w 128880"/>
                <a:gd name="textAreaRight" fmla="*/ 75960 w 12888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12"/>
            <p:cNvSpPr/>
            <p:nvPr/>
          </p:nvSpPr>
          <p:spPr>
            <a:xfrm>
              <a:off x="351720" y="142200"/>
              <a:ext cx="129240" cy="193680"/>
            </a:xfrm>
            <a:custGeom>
              <a:avLst/>
              <a:gdLst>
                <a:gd name="textAreaLeft" fmla="*/ 53280 w 129240"/>
                <a:gd name="textAreaRight" fmla="*/ 75960 w 129240"/>
                <a:gd name="textAreaTop" fmla="*/ 79920 h 193680"/>
                <a:gd name="textAreaBottom" fmla="*/ 113760 h 193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Group 13"/>
          <p:cNvGrpSpPr/>
          <p:nvPr/>
        </p:nvGrpSpPr>
        <p:grpSpPr>
          <a:xfrm>
            <a:off x="8528040" y="76320"/>
            <a:ext cx="539640" cy="539640"/>
            <a:chOff x="8528040" y="76320"/>
            <a:chExt cx="539640" cy="539640"/>
          </a:xfrm>
        </p:grpSpPr>
        <p:sp>
          <p:nvSpPr>
            <p:cNvPr id="141" name="Rectangle 14"/>
            <p:cNvSpPr/>
            <p:nvPr/>
          </p:nvSpPr>
          <p:spPr>
            <a:xfrm>
              <a:off x="8528040" y="7632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8646840" y="45720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6"/>
            <p:cNvSpPr/>
            <p:nvPr/>
          </p:nvSpPr>
          <p:spPr>
            <a:xfrm>
              <a:off x="8810280" y="2840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AutoShape 17"/>
            <p:cNvSpPr/>
            <p:nvPr/>
          </p:nvSpPr>
          <p:spPr>
            <a:xfrm>
              <a:off x="8604000" y="15228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AutoShape 18"/>
            <p:cNvSpPr/>
            <p:nvPr/>
          </p:nvSpPr>
          <p:spPr>
            <a:xfrm>
              <a:off x="8853120" y="1540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.Г.Сухиным написано также несколько шахматных книг для детей дошкольного возрас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В 2014 году одна из них - «Шахматы для самых маленьких» - в очередной раз переиздана (под названием «Шахматы для детей»), при этом на обложке издательство «АСТ» указало следующее: «7-ое издание бестселлера».</a:t>
            </a: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47" name="Picture 3" descr="D:\Мои документы\Фото_Сухин_обложка_Шахматы_для_детей_2014_42кбт.jpg"/>
          <p:cNvPicPr/>
          <p:nvPr/>
        </p:nvPicPr>
        <p:blipFill>
          <a:blip r:embed="rId1"/>
          <a:stretch/>
        </p:blipFill>
        <p:spPr>
          <a:xfrm>
            <a:off x="152280" y="2895480"/>
            <a:ext cx="29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D:\Мои документы\Астрель_Шахматы_для_самых_маленьких25.jpg"/>
          <p:cNvPicPr/>
          <p:nvPr/>
        </p:nvPicPr>
        <p:blipFill>
          <a:blip r:embed="rId2"/>
          <a:stretch/>
        </p:blipFill>
        <p:spPr>
          <a:xfrm>
            <a:off x="3408480" y="2895480"/>
            <a:ext cx="2768400" cy="3657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D:\Мои документы\Мои рисунки\Мои фотографии\Обложки шахматных книг\Приключения  Шах стране  40пр Р100.jpg"/>
          <p:cNvPicPr/>
          <p:nvPr/>
        </p:nvPicPr>
        <p:blipFill>
          <a:blip r:embed="rId3"/>
          <a:stretch/>
        </p:blipFill>
        <p:spPr>
          <a:xfrm>
            <a:off x="6400800" y="2895480"/>
            <a:ext cx="2700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150" name="Group 6"/>
          <p:cNvGrpSpPr/>
          <p:nvPr/>
        </p:nvGrpSpPr>
        <p:grpSpPr>
          <a:xfrm>
            <a:off x="152280" y="2209680"/>
            <a:ext cx="540000" cy="539640"/>
            <a:chOff x="152280" y="2209680"/>
            <a:chExt cx="540000" cy="539640"/>
          </a:xfrm>
        </p:grpSpPr>
        <p:sp>
          <p:nvSpPr>
            <p:cNvPr id="151" name="Rectangle 7"/>
            <p:cNvSpPr/>
            <p:nvPr/>
          </p:nvSpPr>
          <p:spPr>
            <a:xfrm>
              <a:off x="152280" y="2209680"/>
              <a:ext cx="540000" cy="539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8"/>
            <p:cNvSpPr/>
            <p:nvPr/>
          </p:nvSpPr>
          <p:spPr>
            <a:xfrm>
              <a:off x="271440" y="2590560"/>
              <a:ext cx="304920" cy="7632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9"/>
            <p:cNvSpPr/>
            <p:nvPr/>
          </p:nvSpPr>
          <p:spPr>
            <a:xfrm>
              <a:off x="4348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AutoShape 10"/>
            <p:cNvSpPr/>
            <p:nvPr/>
          </p:nvSpPr>
          <p:spPr>
            <a:xfrm>
              <a:off x="228600" y="22856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AutoShape 11"/>
            <p:cNvSpPr/>
            <p:nvPr/>
          </p:nvSpPr>
          <p:spPr>
            <a:xfrm>
              <a:off x="477720" y="2287440"/>
              <a:ext cx="152640" cy="228600"/>
            </a:xfrm>
            <a:custGeom>
              <a:avLst/>
              <a:gdLst>
                <a:gd name="textAreaLeft" fmla="*/ 63000 w 152640"/>
                <a:gd name="textAreaRight" fmla="*/ 89640 w 15264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2"/>
          <p:cNvGrpSpPr/>
          <p:nvPr/>
        </p:nvGrpSpPr>
        <p:grpSpPr>
          <a:xfrm>
            <a:off x="8528040" y="2209680"/>
            <a:ext cx="539640" cy="539640"/>
            <a:chOff x="8528040" y="2209680"/>
            <a:chExt cx="539640" cy="539640"/>
          </a:xfrm>
        </p:grpSpPr>
        <p:sp>
          <p:nvSpPr>
            <p:cNvPr id="157" name="Rectangle 13"/>
            <p:cNvSpPr/>
            <p:nvPr/>
          </p:nvSpPr>
          <p:spPr>
            <a:xfrm>
              <a:off x="8528040" y="2209680"/>
              <a:ext cx="539640" cy="5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Freeform 14"/>
            <p:cNvSpPr/>
            <p:nvPr/>
          </p:nvSpPr>
          <p:spPr>
            <a:xfrm>
              <a:off x="8646840" y="2590560"/>
              <a:ext cx="304560" cy="7632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92" h="48">
                  <a:moveTo>
                    <a:pt x="0" y="0"/>
                  </a:moveTo>
                  <a:cubicBezTo>
                    <a:pt x="32" y="24"/>
                    <a:pt x="64" y="48"/>
                    <a:pt x="96" y="48"/>
                  </a:cubicBezTo>
                  <a:cubicBezTo>
                    <a:pt x="128" y="48"/>
                    <a:pt x="176" y="8"/>
                    <a:pt x="19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5"/>
            <p:cNvSpPr/>
            <p:nvPr/>
          </p:nvSpPr>
          <p:spPr>
            <a:xfrm>
              <a:off x="8810280" y="24174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16"/>
            <p:cNvSpPr/>
            <p:nvPr/>
          </p:nvSpPr>
          <p:spPr>
            <a:xfrm>
              <a:off x="8604000" y="2285640"/>
              <a:ext cx="151920" cy="228600"/>
            </a:xfrm>
            <a:custGeom>
              <a:avLst/>
              <a:gdLst>
                <a:gd name="textAreaLeft" fmla="*/ 62640 w 151920"/>
                <a:gd name="textAreaRight" fmla="*/ 89280 w 15192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17"/>
            <p:cNvSpPr/>
            <p:nvPr/>
          </p:nvSpPr>
          <p:spPr>
            <a:xfrm>
              <a:off x="8853120" y="228744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Это старая истина - нет пророка в своём отечестве. Поэтому, хотя главный труд </a:t>
            </a:r>
            <a:br>
              <a:rPr sz="2800"/>
            </a:br>
            <a:r>
              <a:rPr b="1" lang="ru-RU" sz="2800" spc="-1" strike="noStrike">
                <a:solidFill>
                  <a:srgbClr val="808000"/>
                </a:solidFill>
                <a:latin typeface="Times New Roman"/>
              </a:rPr>
              <a:t> И.Г.Сухина - курс «Шахматы - школе» - был написан по предложению Министерства образования РФ и получил его высший гриф - «Рекомендовано», центральные СМИ об этом никогда не писали. Чтобы войти в широкое информационное поле, нужны огромные усилия. Миром СМИ правит негатив, позитив СМИ неинтересен. Поэтому задача - сделать так, чтобы все дети России стали немного умнее, - пока отдана в руки энтузиастов. К счастью, их в России пока ещё хватает!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3" name="Picture 3" descr="D:\Мои документы\My_site2\Image2.gif"/>
          <p:cNvPicPr/>
          <p:nvPr/>
        </p:nvPicPr>
        <p:blipFill>
          <a:blip r:embed="rId1"/>
          <a:stretch/>
        </p:blipFill>
        <p:spPr>
          <a:xfrm>
            <a:off x="152280" y="5562720"/>
            <a:ext cx="777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92504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.Г.Сухин 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ндидат педагогических наук, старший научный сотрудник Института стратегии развития образования Российской академии образования (Москва),  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чётный работник общего образования Российской Федерации, лауреат Фонда Первого Президента Республики Саха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етодолог шахматного всеобуча в РФ, кандидат в мастера по шахматам (чемпион клуба "Спартак" Москва, 1977), руководитель Интернет-проектов "Занимательные и методические материалы из книг Игоря Сухина" –  http://suhin.narod.ru и "Шахматы для детей от 0 до 14 лет, родителей и педагогов: Учиться на одни пятёрки (Сайт шахматного всеобуча)" – http://chess555.narod.ru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И.Г.Сухин – автор Федерального курса для начальной школы "Шахматы – школе", автор более ста книг для учителей, родителей и детей, изданных в России, Испании, Турции, Германии, Словении и США суммарным тиражом около 2,0 млн. экземпляров. Ряд работ получили гриф "Рекомендовано Министерством общего и профессионального образования РФ". Тематика книг: шахматные учебники и пособия для начальной школы, детей 2-6 лет, занимательная математика, игры с буквами и словами, разнообразные затеи для начальной школы, литературные тесты, викторины и др.</a:t>
            </a:r>
            <a:endParaRPr b="0" lang="en-US" sz="2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5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152280" y="2819520"/>
            <a:ext cx="7923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4396-1F1A-4366-8BDF-B45F4EAD61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«Сайт шахматного всеобуча» (http://chess555.narod.ru)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айт «Избранные</a:t>
            </a:r>
            <a:br>
              <a:rPr sz="4800"/>
            </a:b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страницы из книг Игоря Сухина (http://</a:t>
            </a:r>
            <a:r>
              <a:rPr b="1" lang="en-US" sz="4800" spc="-1" strike="noStrike">
                <a:solidFill>
                  <a:srgbClr val="666633"/>
                </a:solidFill>
                <a:latin typeface="Times New Roman"/>
              </a:rPr>
              <a:t>suhin</a:t>
            </a:r>
            <a:r>
              <a:rPr b="1" lang="ru-RU" sz="4800" spc="-1" strike="noStrike">
                <a:solidFill>
                  <a:srgbClr val="666633"/>
                </a:solidFill>
                <a:latin typeface="Times New Roman"/>
              </a:rPr>
              <a:t>.narod.ru)</a:t>
            </a:r>
            <a:endParaRPr b="0" lang="en-US" sz="4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68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4114800" y="152280"/>
            <a:ext cx="792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763120" cy="40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Игорь Георгиевич Сухин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66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Е-мейл: suhin_i@mail.ru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666633"/>
                </a:solidFill>
                <a:latin typeface="Times New Roman"/>
              </a:rPr>
              <a:t>Контактный телефон: 8-499-966-79-48 </a:t>
            </a: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152280" y="6165720"/>
            <a:ext cx="4114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езентацию подготовил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0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20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И.Г.Сух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оррекция 10.09.201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4" descr="D:\Мои документы\Сухин_отл_ХМАО_11-06-2013_светл.jpg"/>
          <p:cNvPicPr/>
          <p:nvPr/>
        </p:nvPicPr>
        <p:blipFill>
          <a:blip r:embed="rId1"/>
          <a:stretch/>
        </p:blipFill>
        <p:spPr>
          <a:xfrm>
            <a:off x="3505320" y="152280"/>
            <a:ext cx="193032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1CBA0-FD5C-4E3C-B28F-7F4F83279F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66764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рубежный подход «Шахматы в школе» к сентябрю 2019 года реализуется во всех зарубежных учебниках и учебно-методических комплектах (УМК), написанных для начальной школы, и почти во всех отечественных (в том числе в курсах «Шахматы в школе» и «Шахматы в школы»)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оссийский подход «Шахматы – школе» реализован только в Федеральном здоровьесберегающем  надпредметном курсе «Шахматы – школе».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D:\Мои документы\Курсы_Забайкальский_край_1год\Сухин_фото_20.jpg"/>
          <p:cNvPicPr/>
          <p:nvPr/>
        </p:nvPicPr>
        <p:blipFill>
          <a:blip r:embed="rId1"/>
          <a:stretch/>
        </p:blipFill>
        <p:spPr>
          <a:xfrm>
            <a:off x="7929720" y="5029200"/>
            <a:ext cx="113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CADB-59E4-4FC0-A9CC-01E9160954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. Определение базового научнообоснованного целеполагания, ориентированного на решение фундаментальных задач, стоящих перед системой образования.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633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ный отечественный методолог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.Г. Алексеев учил, что невозможно решить общую проблему  (к примеру, развитие мышления) в общем виде – это методологически неверно. Для этого нужно выбрать точную, конкретную цель, правильное направление, и это поможет решить проблему в целом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Поэтому в курсе «Шахматы – школе» цель – поэтапное, нефорсированное развитие у детей способности действовать «в уме», имеющее фундаментальное значение для начальной школы. 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F1C-6608-4129-8B94-BAA696482B1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69608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marL="37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</a:rPr>
              <a:t>Гроссмейстер Ю.С.Разуваев: </a:t>
            </a:r>
            <a:br>
              <a:rPr sz="3400"/>
            </a:b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«Просто научить учеников в школе играть в шахматы – это ерунда, а не цель. Пока же, на уроках детей всего лишь учат играть в шахматы, а потом перенаправляют в кружки. Это неправильно. Мы должны достигать значимых для системы образования целей, а это, прежде всего, – развитие способности действовать "в уме"».</a:t>
            </a:r>
            <a:endParaRPr b="0" lang="en-US" sz="3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2" name="Picture 3" descr="D:\Мои документы\Разуваев.jpg"/>
          <p:cNvPicPr/>
          <p:nvPr/>
        </p:nvPicPr>
        <p:blipFill>
          <a:blip r:embed="rId1"/>
          <a:stretch/>
        </p:blipFill>
        <p:spPr>
          <a:xfrm>
            <a:off x="152280" y="4800600"/>
            <a:ext cx="13716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318D-20F4-40EC-88FB-39311C50BE3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Целеполагание российского федерального курса «Шахматы – школе» – чётко структурированное поэтапное развитие у детей  фундаментальной способности действовать «в уме».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AADC-D385-440B-BB33-881542807A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Важнейшие аспекты введения шахмат в школьную программу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. Разработка научного обоснования для написания курса шахмат в начальной школе.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7:33:04Z</dcterms:created>
  <dc:creator>suhin</dc:creator>
  <dc:description/>
  <dc:language>en-US</dc:language>
  <cp:lastModifiedBy>home</cp:lastModifiedBy>
  <dcterms:modified xsi:type="dcterms:W3CDTF">2019-09-10T17:18:55Z</dcterms:modified>
  <cp:revision>124</cp:revision>
  <dc:subject/>
  <dc:title>Заголовок слайда отсутствует</dc:title>
</cp:coreProperties>
</file>